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217-4FAE-4285-87B4-14835F2F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CD3-2BED-4A9A-B25D-6C8A897F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A89CE-5340-4694-884A-AA4248D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7A4D8-F2B8-4ECD-B6A5-5283B3F9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E8EF5-12EE-45D4-A206-FA4DC786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2BBF8-CFF7-4EAE-8D68-3AB947D1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3F98-5379-4CD3-8626-7C06A143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58D3D-34DF-4D01-BABB-0432F8F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CF4B-32CA-451F-971C-613BEDCA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67027-ADA5-43D9-A4F3-6D259F2B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BAE3D-874C-4369-8DDA-FDEA7C73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6D51C-000D-4E31-A190-58D26D44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9C3-DE0A-404D-AEF0-3204A4F4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A28A5-CE91-4798-8BF9-B27DC03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BE699-0976-4C91-B4A8-EB2842E5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A9F08-00F5-45F5-9DA2-2CD3F4A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749CA-5935-4B65-8588-3563C607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94211-296F-45D1-928D-311D0378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D575-9DCF-4951-9B84-B6C31EB8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2F5B7-04CD-41BD-9814-935492A0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6818F-DEBD-4D8B-BD1B-646E9D7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82A40-4428-4FF9-8AB2-CA757EB4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4EE50-3495-4C33-B2BF-E7F5D487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F8F-780A-4446-975E-7AE90C88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93C6-6ADC-4B0B-AA66-B95A7149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FBD9A-9FA0-4D20-AC20-A684A602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233CC-6E3D-43BC-BC4F-BA8323D1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F51AB-D8E1-4A54-81A5-E55B225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86E7A-40E6-4584-BE40-2906194A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E03E9-0F1F-44D3-AB57-E19420F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1D99D-D10F-4A46-94D9-7D1DB61C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FDF9A-8F34-4D35-9795-5043CAD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A8DF-CBCF-476D-B76F-186B802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3A387-846A-4497-A9F7-8215FDA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0699-42CF-4B61-AD5B-E0E8A105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F4BD1-7F8C-4DBD-9618-275E6D91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E4DB9-71E5-4F89-8E88-F1094486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F7941-D5BB-4213-AF53-0B9D8791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77E43-D26B-44F9-A8C3-B4B2592B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C2E83-AF31-4F76-AFEE-4C04D310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62169-7805-42A1-9852-8C0EAB2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01516-4DE7-4343-9C03-485C6C25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58CDA-2931-437F-8E7D-8B58091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1064F-9BA6-47A6-8B64-76B44254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48757-CB8A-4C80-B67E-51E31E9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D06B-AC74-4737-AE3F-D266BB5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A5F06-656B-4A30-8436-87C9B2B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1BFEF-CFAF-4433-9E99-F44CF61E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B9A53-E911-46EE-AEA2-D22D86D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0370E-285B-44C7-BF0B-DEBEB17A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E5D1E-A21A-450A-9D21-386CC344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91DD-22C4-40DF-B2FE-B7DD8896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743-BBEC-473C-9FD1-3C3BFD47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9CE8-DA03-4F7C-8554-4B6C7A3C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914B-F254-419D-BD3B-64411C6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6906-CA62-469B-A272-E1B99807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847-FA62-4AFE-B05C-32B7F6D6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E8D-30C0-43C3-A27A-FB915AE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E5B-D54F-4016-AC15-09B7669B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B37D-8B69-40B1-99B7-01EB253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5AB2-9945-4DF2-AD38-29D6BA97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F40B-E354-4E55-AE5A-BA186B8E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5755-1DB3-4727-A97D-2F9022CD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0208-A6A2-413C-A435-6E8209E6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07FD-1120-4965-9F71-7000328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5484-12DB-4194-A082-7913D54A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2AA3-C612-401B-AB4F-D2E11557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049-8BDB-4C20-A882-EA960F86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A0FF-E5DF-4163-BB26-87DF1DF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D623-0566-42B7-AEF0-B22B695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4B817-60D2-427F-B464-9118C88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F045-ADF0-4CF5-9EC4-ECF0279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F1B6-D9AD-4022-BEB4-842799AB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E631-9F61-4719-96FC-C3378952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5816-16E5-40CD-B953-F35ADF6E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6F58-B53C-4762-96F7-8CF58D4B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20EE-F44D-48B2-B9E3-3E98E9B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CAD7-F7CD-4D9A-8036-5CC11E8B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F81-6348-4C0A-B1FE-0B006B4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4BD1-7F9C-45A7-9299-4F327EFC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4353E-BA79-4ACD-8F79-804793A5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C6E4-1813-4D0B-8AFD-3154A1D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8C94C-23A1-439B-8DEF-CBE6260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47A9-8BA8-4B8E-AAB4-E5CF693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D5D16-568C-4BE0-8C7B-2BC6E31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D2F1-C9C6-43EE-AE3E-CAF9C46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6FB4-4D82-4506-91D9-0C268695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AB70C-7BC9-4436-822F-B20F7122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7B8B3-5BA4-460F-AC1B-7E5E9938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D3D-42E5-4B70-A9BF-589A898A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71FD-DCE9-4217-8281-21663005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322F-BBA0-4F52-8959-E78B0289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B033-89CB-4B5C-AFB4-DDC864C4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B635-3F45-4DF9-950A-562C4540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0A93-B89D-4C96-AAF2-0F0C69F8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75909-336C-421B-BF2A-EDE6711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65743-6032-48EA-B187-4A8E31F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DBF0-F8D9-4BBB-B66B-E9D7100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8F04-F440-4113-9F9E-432EB79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5E6A-BDE7-4EA0-BE16-7044A2B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30A-4DF8-4DF3-812F-8923FF37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FA9A-ACEE-41BE-B681-977BEBAC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80181-F1ED-4545-9754-C7448893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F542-C855-4CA3-B234-DFB7F9B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C494-8488-4C2A-B14C-7EC27853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2CFEE-3C33-40DC-B5BA-91D669B9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A17B4-61F1-45FD-B848-3DB7DF8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963B-D5B0-4362-8E42-94A175AC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22F36-1AA8-4B62-B77B-43783DB4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3979-6348-44BA-920D-00F5C41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3AF1-119A-493D-B0C2-2DA2286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B0A-6572-4A35-8CA2-27E5A2E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583CF-13AD-44D2-A3EA-C9CB1376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3D42-E614-44A0-9BFC-9CC47EE6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003E7-6168-422F-BC7E-2E928C02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5CE3F-ECD9-4F2F-8E58-DB621DB0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49A39-4D0F-4BB5-AC45-8B0DAAB9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313D1-FE3C-438F-9F5A-64B2EA71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A54E-78FC-4E2A-AE78-D69D70AE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7731E-A94D-4E50-98E2-25002C64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112B-B8D5-4A59-BDA1-6554744E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657D-4585-4B41-8565-F099C8D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345-C1FA-447C-B933-9FD6C7CA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381E-AD6F-4EE0-906A-96CE9AA9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0E38-E5DA-4C16-AE09-3611094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94A4F-FD2C-454C-B330-D03CA1AF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11938-C121-4021-BFBE-B84A604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90DE6-7F99-4374-96EE-4DBBD0C9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422E-4379-434E-880B-C8FE5943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6674-A922-4468-9751-F466A134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12D1-5544-42C7-977F-6B1B65A6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96FA-B65D-46E6-A8A5-F240D9D8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15605-443A-4E05-9F5C-DD9AABF6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766-771C-4274-9EFC-2C70EEEB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23ACF-250F-41CF-92D0-8F91482F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5946-D7D2-4804-8918-C547F90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09769-6DCB-42E3-8440-6B93C52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2366-6F6B-4524-BAFB-FBC16F6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3DF75-0946-4A05-A6CE-89CA308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68CD-E0A0-40EF-A1DB-0E0C23CE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7F24-D1B9-46EC-BAFC-4D62A2E1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3ACBD-056C-4674-B1F9-11E219C6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0345E-FB90-4063-BB09-9C3B111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C53B4-674F-4E02-B03F-66FF12D8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40AA-4526-479D-94CD-B95E1BA8DC1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FD1A-7DDC-4F46-BA08-7E6FEFC353E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229-A27D-4FBD-8478-9E8FD59145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8D5-C0F5-41DE-AE86-7E1DCD37A2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038-791C-48F3-833C-242A3F6D47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3DE-D99E-4BE8-9221-D8B710325DC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3CD6-D0FC-4645-A003-840D4648D72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B04-7C18-45B4-ACCA-5C4D5F9F04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E351-BED4-490D-83C1-A2C02E41AE3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8A8-4D59-46DC-86BE-6B27389CAC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8EC-1073-4300-A1DD-7CA86C7886E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7695-0D0F-4B84-8CC5-23988336FB3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Unutarnja energij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 čemu se razlikuju vrući i hladni napit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tempera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znamo o topl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"/>
          <p:cNvPicPr/>
          <p:nvPr/>
        </p:nvPicPr>
        <p:blipFill>
          <a:blip r:embed="rId2"/>
          <a:stretch/>
        </p:blipFill>
        <p:spPr>
          <a:xfrm>
            <a:off x="3733920" y="3424320"/>
            <a:ext cx="3832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6"/>
          <p:cNvSpPr/>
          <p:nvPr/>
        </p:nvSpPr>
        <p:spPr>
          <a:xfrm>
            <a:off x="5760" y="1295280"/>
            <a:ext cx="86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širi  boja (kalijev permanganat ili tinta) u menzurama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ućom i hladnom vo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3209760" y="4724280"/>
            <a:ext cx="5040720" cy="82548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vrućoj vodi se čestice gibaju brž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a se voda brže obo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211120" cy="2743200"/>
          </a:xfrm>
          <a:prstGeom prst="rect">
            <a:avLst/>
          </a:prstGeom>
          <a:ln w="0">
            <a:noFill/>
          </a:ln>
        </p:spPr>
      </p:pic>
      <p:pic>
        <p:nvPicPr>
          <p:cNvPr id="643" name="Slika 5" descr=""/>
          <p:cNvPicPr/>
          <p:nvPr/>
        </p:nvPicPr>
        <p:blipFill>
          <a:blip r:embed="rId2"/>
          <a:stretch/>
        </p:blipFill>
        <p:spPr>
          <a:xfrm>
            <a:off x="282600" y="77940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1"/>
          <p:cNvSpPr/>
          <p:nvPr/>
        </p:nvSpPr>
        <p:spPr>
          <a:xfrm>
            <a:off x="2846880" y="64296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emperatu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610200" y="1571760"/>
            <a:ext cx="707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jera zagrijanosti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tijelo više zagrijano, temperatura mu je viš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2581200" cy="2286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4638600" y="3581280"/>
            <a:ext cx="2448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3"/>
          <p:cNvSpPr/>
          <p:nvPr/>
        </p:nvSpPr>
        <p:spPr>
          <a:xfrm>
            <a:off x="867960" y="1714680"/>
            <a:ext cx="63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stice vruće vode ima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inetičku energiju (zbog gib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ten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nu energiju (zbog međudjelo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513720" y="3483000"/>
            <a:ext cx="7660440" cy="173988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Unutarnja energija</a:t>
            </a:r>
            <a:r>
              <a:rPr b="0" lang="en-US" sz="2400" spc="-1" strike="noStrike">
                <a:solidFill>
                  <a:srgbClr val="fb1e1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 je z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roj  kinetič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 potencij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nerg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sv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čestica unutar tijel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ća je što je viš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a i što je veća masa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2517120" y="57168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Unutarnja ener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917640" y="5029200"/>
            <a:ext cx="44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značujemo  je slov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 džul (znak J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1"/>
          <p:cNvSpPr/>
          <p:nvPr/>
        </p:nvSpPr>
        <p:spPr>
          <a:xfrm>
            <a:off x="3341160" y="642960"/>
            <a:ext cx="18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opl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512640" y="1500120"/>
            <a:ext cx="796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Top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nutarnja energija u prijelazu s toplijeg na hladnije tij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čujem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v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topline džul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k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3841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380880" y="1066680"/>
            <a:ext cx="7958160" cy="119124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lina prelazi s toplijeg na hladnije tijelo sve dok se temperature tih tijela ne izjedna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8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3530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3"/>
          <p:cNvSpPr/>
          <p:nvPr/>
        </p:nvSpPr>
        <p:spPr>
          <a:xfrm>
            <a:off x="268920" y="1676520"/>
            <a:ext cx="7905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nasumično gibanje molekula ovisi o temperaturi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unutarnja energija? O čemu ovis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toplin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Slika 2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3886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9:01:27Z</dcterms:modified>
  <cp:revision>24</cp:revision>
  <dc:subject/>
  <dc:title>Slide 1</dc:title>
</cp:coreProperties>
</file>